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9.gif" ContentType="image/gif"/>
  <Override PartName="/ppt/media/image19.png" ContentType="image/png"/>
  <Override PartName="/ppt/media/image3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57AB-1F77-401D-9AD6-6D29345E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E1A-36EB-4686-BBA4-45AF93BD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CAB-7FA7-4E98-AB4C-EF41EE5C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CAE-9C7A-4ACA-8EF3-4DDABACB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DEF-63FD-4DD1-8023-68ADBF4D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DAC-334A-463E-8A95-F7D70A59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ACC-7CD4-47E1-B0CE-8B9B128C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E65-C880-48E9-B198-387FD9DD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8E75-2C77-43A8-ABC4-1B42835E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F81-7F11-40E9-8652-340E3ADF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3B82-82B4-4625-A893-47F908FE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CA1-47EF-4109-913E-72D1DE28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DCF7-3050-43DE-8F0A-44F6CB176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2: Following the Steps      Name: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ar"/>
          <p:cNvPicPr/>
          <p:nvPr/>
        </p:nvPicPr>
        <p:blipFill>
          <a:blip r:embed="rId1"/>
          <a:stretch/>
        </p:blipFill>
        <p:spPr>
          <a:xfrm>
            <a:off x="5257800" y="1752480"/>
            <a:ext cx="54468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original_eyes"/>
          <p:cNvPicPr/>
          <p:nvPr/>
        </p:nvPicPr>
        <p:blipFill>
          <a:blip r:embed="rId2"/>
          <a:stretch/>
        </p:blipFill>
        <p:spPr>
          <a:xfrm>
            <a:off x="5181480" y="4343400"/>
            <a:ext cx="1371600" cy="638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3886200" y="1849320"/>
            <a:ext cx="1752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6" descr="ANd9GcTFW2j2Qf04vqvB4IULBky-VhFfwbq73aA14akg82G0jM-EMlw&amp;t=1&amp;usg=__XDMNgHDsW-U7TuiXXAmZufSXrjQ="/>
          <p:cNvPicPr/>
          <p:nvPr/>
        </p:nvPicPr>
        <p:blipFill>
          <a:blip r:embed="rId3"/>
          <a:stretch/>
        </p:blipFill>
        <p:spPr>
          <a:xfrm>
            <a:off x="5257800" y="2895480"/>
            <a:ext cx="990720" cy="9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8" descr="ANd9GcQUQkOVuJqyK8mR1H0nCgT8-EIXsDJ9isVq3pUZGgzLncyMzjU&amp;t=1&amp;usg=__cF-3GnSz6Uxh8y9VojQLSX_1OyQ="/>
          <p:cNvPicPr/>
          <p:nvPr/>
        </p:nvPicPr>
        <p:blipFill>
          <a:blip r:embed="rId4"/>
          <a:stretch/>
        </p:blipFill>
        <p:spPr>
          <a:xfrm>
            <a:off x="5105520" y="5486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9"/>
          <p:cNvSpPr/>
          <p:nvPr/>
        </p:nvSpPr>
        <p:spPr>
          <a:xfrm>
            <a:off x="5410080" y="1371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     ask      look      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0" descr=""/>
          <p:cNvPicPr/>
          <p:nvPr/>
        </p:nvPicPr>
        <p:blipFill>
          <a:blip r:embed="rId5"/>
          <a:stretch/>
        </p:blipFill>
        <p:spPr>
          <a:xfrm>
            <a:off x="4343400" y="1371600"/>
            <a:ext cx="725400" cy="380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1"/>
          <p:cNvSpPr/>
          <p:nvPr/>
        </p:nvSpPr>
        <p:spPr>
          <a:xfrm>
            <a:off x="6705720" y="1828800"/>
            <a:ext cx="16761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1" descr="http://t1.gstatic.com/images?q=tbn:ANd9GcSIFb9wVE7SOkXZxpT4EqRAXrYNRS4uwsZNgEu65uLTtOdQWjli"/>
          <p:cNvPicPr/>
          <p:nvPr/>
        </p:nvPicPr>
        <p:blipFill>
          <a:blip r:embed="rId6"/>
          <a:stretch/>
        </p:blipFill>
        <p:spPr>
          <a:xfrm>
            <a:off x="990720" y="19810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68640" y="3693960"/>
            <a:ext cx="35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following the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following the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479840" y="417600"/>
            <a:ext cx="405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  4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ay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do you follow the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95680" y="2743200"/>
            <a:ext cx="352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MC900048087[1]"/>
          <p:cNvPicPr/>
          <p:nvPr/>
        </p:nvPicPr>
        <p:blipFill>
          <a:blip r:embed="rId1"/>
          <a:stretch/>
        </p:blipFill>
        <p:spPr>
          <a:xfrm>
            <a:off x="380880" y="2133720"/>
            <a:ext cx="1436760" cy="166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MC900188663[1]"/>
          <p:cNvPicPr/>
          <p:nvPr/>
        </p:nvPicPr>
        <p:blipFill>
          <a:blip r:embed="rId2"/>
          <a:stretch/>
        </p:blipFill>
        <p:spPr>
          <a:xfrm>
            <a:off x="1981080" y="2286000"/>
            <a:ext cx="160020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M900365320[1]"/>
          <p:cNvPicPr/>
          <p:nvPr/>
        </p:nvPicPr>
        <p:blipFill>
          <a:blip r:embed="rId3"/>
          <a:stretch/>
        </p:blipFill>
        <p:spPr>
          <a:xfrm>
            <a:off x="6934320" y="6094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C900056947[1]"/>
          <p:cNvPicPr/>
          <p:nvPr/>
        </p:nvPicPr>
        <p:blipFill>
          <a:blip r:embed="rId4"/>
          <a:stretch/>
        </p:blipFill>
        <p:spPr>
          <a:xfrm>
            <a:off x="6858000" y="3124080"/>
            <a:ext cx="1371600" cy="129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MC900199249[1]"/>
          <p:cNvPicPr/>
          <p:nvPr/>
        </p:nvPicPr>
        <p:blipFill>
          <a:blip r:embed="rId5"/>
          <a:stretch/>
        </p:blipFill>
        <p:spPr>
          <a:xfrm>
            <a:off x="304920" y="304920"/>
            <a:ext cx="990360" cy="76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MC910217050[1]"/>
          <p:cNvPicPr/>
          <p:nvPr/>
        </p:nvPicPr>
        <p:blipFill>
          <a:blip r:embed="rId6"/>
          <a:stretch/>
        </p:blipFill>
        <p:spPr>
          <a:xfrm>
            <a:off x="8001000" y="30492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MC900432589[1]"/>
          <p:cNvPicPr/>
          <p:nvPr/>
        </p:nvPicPr>
        <p:blipFill>
          <a:blip r:embed="rId7"/>
          <a:stretch/>
        </p:blipFill>
        <p:spPr>
          <a:xfrm>
            <a:off x="8153280" y="3200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5"/>
          <p:cNvSpPr/>
          <p:nvPr/>
        </p:nvSpPr>
        <p:spPr>
          <a:xfrm>
            <a:off x="228600" y="228600"/>
            <a:ext cx="3733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267080" y="228600"/>
            <a:ext cx="45720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4267080" y="3124080"/>
            <a:ext cx="45720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0:55:01Z</dcterms:modified>
  <cp:revision>11</cp:revision>
  <dc:subject/>
  <dc:title>Slide 1</dc:title>
</cp:coreProperties>
</file>